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10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9506-5F9C-414F-856E-5936CC609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F7DE-A72E-4349-9E92-ED120042A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0224-D39E-473F-9E14-91C259ABA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EAC5-00A5-401E-B336-6773FC9D0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FDAD-71E3-439E-8D92-A6DAFAFFD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92F6-63A1-45C8-B8BC-3F47B3A0B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718F-C40D-48F7-8C7D-7B6BD061D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5A89-0731-4F6B-AAE6-43DC5A84A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A36D-36B4-4023-BDC9-D5F81071B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72C6-147E-44AB-9C3E-80ED86028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E477-5E9E-4CD2-BABA-98D18A1D9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D973-488F-4D23-9A36-F72DE9446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E924-2D8A-47A0-95CA-A0DB45F49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F4BA-618E-4C41-99F7-5D9C42D81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352C-6E8E-436F-8D68-B44E5E89F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F2F-2017-4243-84AB-43485A74E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D8BA-6435-4563-851D-F6977226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EE71-0EB0-491B-BD02-4870708F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7571-6CD9-46A1-A7BC-4EEBCFFE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3588-F713-48B0-94DD-77728F55A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88A7-FD8F-454F-950B-DB48072A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71E4-12C2-41BA-914D-6D7DEC8DD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D02-36B9-44D1-B068-219BBC83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CF8E-0002-4789-A10E-826576CF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22AC-3463-41BD-8252-C415CD9A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F41-B07D-4904-AC26-AC580F73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17A-F1AD-4934-83A5-3B829B737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7340-AA82-47C1-AB6C-AF7701727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honors_algebra_2_homework_assign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2.5  Invers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Horizontal Line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determine whether a function’s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be a function by seeing if the original function passes the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horizontal line test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original function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pas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rizontal line test, then its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inverse is a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original function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does not pa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horizontal line test, then its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inverse is not a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2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Graph the function f(x)=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determine whether its inverse is a func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572000" y="32004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does not pass the horizontal line test, therefore the inverse is not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5"/>
          <p:cNvSpPr/>
          <p:nvPr/>
        </p:nvSpPr>
        <p:spPr>
          <a:xfrm>
            <a:off x="3886200" y="2819520"/>
            <a:ext cx="5257800" cy="25146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[image]"/>
          <p:cNvPicPr/>
          <p:nvPr/>
        </p:nvPicPr>
        <p:blipFill>
          <a:blip r:embed="rId1"/>
          <a:stretch/>
        </p:blipFill>
        <p:spPr>
          <a:xfrm>
            <a:off x="228600" y="1905120"/>
            <a:ext cx="411480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Line 9"/>
          <p:cNvSpPr/>
          <p:nvPr/>
        </p:nvSpPr>
        <p:spPr>
          <a:xfrm>
            <a:off x="380880" y="3657600"/>
            <a:ext cx="350532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arrow" w="med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500"/>
                            </p:stCondLst>
                            <p:childTnLst>
                              <p:par>
                                <p:cTn id="5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f(x)=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4  Determine whether 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is a function, then find the invers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7"/>
              <p:cNvSpPr txBox="1"/>
              <p:nvPr/>
            </p:nvSpPr>
            <p:spPr>
              <a:xfrm>
                <a:off x="5562720" y="3665520"/>
                <a:ext cx="143496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1" name="Text Box 4"/>
          <p:cNvSpPr/>
          <p:nvPr/>
        </p:nvSpPr>
        <p:spPr>
          <a:xfrm>
            <a:off x="380880" y="59436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is not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0" y="5715000"/>
            <a:ext cx="4419720" cy="9144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562720" y="1752480"/>
            <a:ext cx="2514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2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+4 = 2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9"/>
              <p:cNvSpPr txBox="1"/>
              <p:nvPr/>
            </p:nvSpPr>
            <p:spPr>
              <a:xfrm>
                <a:off x="5410080" y="4419720"/>
                <a:ext cx="1967040" cy="11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5" name="Oval 11"/>
          <p:cNvSpPr/>
          <p:nvPr/>
        </p:nvSpPr>
        <p:spPr>
          <a:xfrm>
            <a:off x="5257800" y="4419720"/>
            <a:ext cx="2514600" cy="1218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14"/>
              <p:cNvSpPr txBox="1"/>
              <p:nvPr/>
            </p:nvSpPr>
            <p:spPr>
              <a:xfrm>
                <a:off x="7162920" y="5410080"/>
                <a:ext cx="175248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±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7" name="Text Box 16"/>
          <p:cNvSpPr/>
          <p:nvPr/>
        </p:nvSpPr>
        <p:spPr>
          <a:xfrm>
            <a:off x="5105520" y="5791320"/>
            <a:ext cx="19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if you fix the tent in the basemen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7"/>
          <p:cNvSpPr/>
          <p:nvPr/>
        </p:nvSpPr>
        <p:spPr>
          <a:xfrm>
            <a:off x="7086600" y="5334120"/>
            <a:ext cx="2057400" cy="1218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0" descr="[image]"/>
          <p:cNvPicPr/>
          <p:nvPr/>
        </p:nvPicPr>
        <p:blipFill>
          <a:blip r:embed="rId1"/>
          <a:stretch/>
        </p:blipFill>
        <p:spPr>
          <a:xfrm>
            <a:off x="609480" y="1447920"/>
            <a:ext cx="4038840" cy="4038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Line 22"/>
          <p:cNvSpPr/>
          <p:nvPr/>
        </p:nvSpPr>
        <p:spPr>
          <a:xfrm>
            <a:off x="1143000" y="2819520"/>
            <a:ext cx="289548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arrow" w="med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1000"/>
                            </p:stCondLst>
                            <p:childTnLst>
                              <p:par>
                                <p:cTn id="6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 g(x)=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4920" y="5867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 is a func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1" descr="[image]"/>
          <p:cNvPicPr/>
          <p:nvPr/>
        </p:nvPicPr>
        <p:blipFill>
          <a:blip r:embed="rId1"/>
          <a:stretch/>
        </p:blipFill>
        <p:spPr>
          <a:xfrm>
            <a:off x="457200" y="1523880"/>
            <a:ext cx="4248000" cy="4248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4" name="Line 13"/>
          <p:cNvSpPr/>
          <p:nvPr/>
        </p:nvSpPr>
        <p:spPr>
          <a:xfrm>
            <a:off x="757080" y="2211480"/>
            <a:ext cx="350064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arrow" w="med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1068480" y="3043080"/>
            <a:ext cx="289692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arrow" w="med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990720" y="4267080"/>
            <a:ext cx="3047760" cy="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arrow" w="med"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7"/>
          <p:cNvSpPr/>
          <p:nvPr/>
        </p:nvSpPr>
        <p:spPr>
          <a:xfrm>
            <a:off x="4952880" y="1523880"/>
            <a:ext cx="396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5791320" y="1523880"/>
            <a:ext cx="198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=2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9"/>
              <p:cNvSpPr txBox="1"/>
              <p:nvPr/>
            </p:nvSpPr>
            <p:spPr>
              <a:xfrm>
                <a:off x="5727600" y="2590920"/>
                <a:ext cx="11178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21"/>
              <p:cNvSpPr txBox="1"/>
              <p:nvPr/>
            </p:nvSpPr>
            <p:spPr>
              <a:xfrm>
                <a:off x="5562720" y="3505320"/>
                <a:ext cx="144756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23"/>
              <p:cNvSpPr txBox="1"/>
              <p:nvPr/>
            </p:nvSpPr>
            <p:spPr>
              <a:xfrm>
                <a:off x="5334120" y="4495680"/>
                <a:ext cx="152388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2" name="Text Box 25"/>
          <p:cNvSpPr/>
          <p:nvPr/>
        </p:nvSpPr>
        <p:spPr>
          <a:xfrm>
            <a:off x="4495680" y="57913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if you fix the tent in the basemen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26"/>
              <p:cNvSpPr txBox="1"/>
              <p:nvPr/>
            </p:nvSpPr>
            <p:spPr>
              <a:xfrm>
                <a:off x="6934320" y="5562720"/>
                <a:ext cx="1371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Oval 28"/>
          <p:cNvSpPr/>
          <p:nvPr/>
        </p:nvSpPr>
        <p:spPr>
          <a:xfrm>
            <a:off x="5105520" y="4419720"/>
            <a:ext cx="2133360" cy="1218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9"/>
          <p:cNvSpPr/>
          <p:nvPr/>
        </p:nvSpPr>
        <p:spPr>
          <a:xfrm>
            <a:off x="6705720" y="5486400"/>
            <a:ext cx="1981080" cy="1143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0"/>
          <p:cNvSpPr/>
          <p:nvPr/>
        </p:nvSpPr>
        <p:spPr>
          <a:xfrm>
            <a:off x="0" y="5638680"/>
            <a:ext cx="4114800" cy="9907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500"/>
                            </p:stCondLst>
                            <p:childTnLst>
                              <p:par>
                                <p:cTn id="7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ssignme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6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rm Up 03/30/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80880" y="9144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(x) + g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692280" y="1447920"/>
          <a:ext cx="4952880" cy="4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447920"/>
                    <a:ext cx="49528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5"/>
          <p:cNvSpPr/>
          <p:nvPr/>
        </p:nvSpPr>
        <p:spPr>
          <a:xfrm>
            <a:off x="380880" y="1905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(x) * g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6"/>
          <p:cNvGraphicFramePr/>
          <p:nvPr/>
        </p:nvGraphicFramePr>
        <p:xfrm>
          <a:off x="609480" y="2438280"/>
          <a:ext cx="401328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438280"/>
                    <a:ext cx="40132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Text Box 7"/>
          <p:cNvSpPr/>
          <p:nvPr/>
        </p:nvSpPr>
        <p:spPr>
          <a:xfrm>
            <a:off x="457200" y="3200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(x) / g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8"/>
          <p:cNvGraphicFramePr/>
          <p:nvPr/>
        </p:nvGraphicFramePr>
        <p:xfrm>
          <a:off x="762120" y="3733920"/>
          <a:ext cx="36068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733920"/>
                    <a:ext cx="36068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9"/>
          <p:cNvSpPr/>
          <p:nvPr/>
        </p:nvSpPr>
        <p:spPr>
          <a:xfrm>
            <a:off x="304920" y="44197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(g(x)) and g(f(x)). Also state th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0"/>
          <p:cNvGraphicFramePr/>
          <p:nvPr/>
        </p:nvGraphicFramePr>
        <p:xfrm>
          <a:off x="609480" y="4876920"/>
          <a:ext cx="356868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4876920"/>
                    <a:ext cx="35686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view from 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mapping of input values (x-values) onto output values (y-valu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3 ways to show the same re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3520" y="34290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666880" y="3124080"/>
            <a:ext cx="22100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   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590920" y="38098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3352680" y="3276720"/>
            <a:ext cx="0" cy="32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[image]"/>
          <p:cNvPicPr/>
          <p:nvPr/>
        </p:nvPicPr>
        <p:blipFill>
          <a:blip r:embed="rId1"/>
          <a:stretch/>
        </p:blipFill>
        <p:spPr>
          <a:xfrm>
            <a:off x="4724280" y="3048120"/>
            <a:ext cx="358164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0" name="Oval 12"/>
          <p:cNvSpPr/>
          <p:nvPr/>
        </p:nvSpPr>
        <p:spPr>
          <a:xfrm>
            <a:off x="380880" y="3352680"/>
            <a:ext cx="1447920" cy="6858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2286000" y="3048120"/>
            <a:ext cx="1981080" cy="38098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4724280" y="3124080"/>
            <a:ext cx="3581640" cy="29718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304920" y="4419720"/>
            <a:ext cx="1676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-3071880"/>
            <a:ext cx="609480" cy="67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verse re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just think: switch the x &amp; y-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457200" y="1295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533520" y="1905120"/>
                <a:ext cx="11430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8" name="Oval 8"/>
          <p:cNvSpPr/>
          <p:nvPr/>
        </p:nvSpPr>
        <p:spPr>
          <a:xfrm>
            <a:off x="304920" y="1905120"/>
            <a:ext cx="1600200" cy="7588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2666880" y="1219320"/>
            <a:ext cx="2133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  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2514600" y="1905120"/>
            <a:ext cx="16765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3352680" y="1143000"/>
            <a:ext cx="0" cy="32767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[image]"/>
          <p:cNvPicPr/>
          <p:nvPr/>
        </p:nvPicPr>
        <p:blipFill>
          <a:blip r:embed="rId1"/>
          <a:stretch/>
        </p:blipFill>
        <p:spPr>
          <a:xfrm>
            <a:off x="4800600" y="990720"/>
            <a:ext cx="3905280" cy="3905280"/>
          </a:xfrm>
          <a:prstGeom prst="rect">
            <a:avLst/>
          </a:prstGeom>
          <a:ln w="0">
            <a:noFill/>
          </a:ln>
        </p:spPr>
      </p:pic>
      <p:sp>
        <p:nvSpPr>
          <p:cNvPr id="83" name="Oval 17"/>
          <p:cNvSpPr/>
          <p:nvPr/>
        </p:nvSpPr>
        <p:spPr>
          <a:xfrm>
            <a:off x="2209680" y="990720"/>
            <a:ext cx="2362320" cy="40384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18"/>
          <p:cNvSpPr/>
          <p:nvPr/>
        </p:nvSpPr>
        <p:spPr>
          <a:xfrm>
            <a:off x="5105520" y="1295280"/>
            <a:ext cx="3809880" cy="342900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0" y="32004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* the inverse of an equation: switch the x &amp; 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0"/>
          <p:cNvSpPr/>
          <p:nvPr/>
        </p:nvSpPr>
        <p:spPr>
          <a:xfrm>
            <a:off x="2514600" y="49528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* the inverse of a table: switch the x &amp;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5257800" y="495288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* the inverse of a graph: the reflection of the original graph in the line y =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:  Find an inverse of y = -3x+6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2193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:  -switch x &amp;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solve for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-3x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-3y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-6 = -3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4038480" y="4419720"/>
                <a:ext cx="13716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6"/>
              <p:cNvSpPr txBox="1"/>
              <p:nvPr/>
            </p:nvSpPr>
            <p:spPr>
              <a:xfrm>
                <a:off x="4038480" y="5486400"/>
                <a:ext cx="13716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Oval 8"/>
          <p:cNvSpPr/>
          <p:nvPr/>
        </p:nvSpPr>
        <p:spPr>
          <a:xfrm>
            <a:off x="3886200" y="5334120"/>
            <a:ext cx="1676520" cy="1218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9"/>
          <p:cNvSpPr/>
          <p:nvPr/>
        </p:nvSpPr>
        <p:spPr>
          <a:xfrm rot="2089800">
            <a:off x="4419360" y="2971800"/>
            <a:ext cx="990360" cy="838080"/>
          </a:xfrm>
          <a:prstGeom prst="pie">
            <a:avLst/>
          </a:prstGeom>
          <a:solidFill>
            <a:srgbClr val="ff00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4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2 functions, f(x) &amp; g(x), if f(g(x))=x AND g(f(x))=x, then f(x) &amp; g(x) are inverses of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838080" y="44197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 means “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Verify that f(x)=-3x+6 and g(x)=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 are inver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find f(g(x)) and g(f(x)).  If they both equal x, then they are inver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04920" y="2286000"/>
            <a:ext cx="35049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g(x))= -3(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+2)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x-6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648320" y="228600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f(x))= 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3x+6)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x-2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447920" y="3581280"/>
            <a:ext cx="609480" cy="5335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5715000" y="3581280"/>
            <a:ext cx="685800" cy="53352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0" y="5791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 Because f(g(x))=x and g(f(x))=x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y are inver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 flipH="1" flipV="1">
            <a:off x="2057040" y="4114800"/>
            <a:ext cx="762120" cy="17524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0"/>
          <p:cNvSpPr/>
          <p:nvPr/>
        </p:nvSpPr>
        <p:spPr>
          <a:xfrm flipV="1">
            <a:off x="4952880" y="4191120"/>
            <a:ext cx="914400" cy="167616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8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o find the inverse of a functio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f(x) to a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the x &amp; y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new equation for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 Rememb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o pass the vertical line t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(a)Find the inverse of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914400" y="2743200"/>
                <a:ext cx="16765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6"/>
              <p:cNvSpPr txBox="1"/>
              <p:nvPr/>
            </p:nvSpPr>
            <p:spPr>
              <a:xfrm>
                <a:off x="990720" y="3429000"/>
                <a:ext cx="1295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8"/>
              <p:cNvSpPr txBox="1"/>
              <p:nvPr/>
            </p:nvSpPr>
            <p:spPr>
              <a:xfrm>
                <a:off x="1066680" y="4267080"/>
                <a:ext cx="1295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3" name="Oval 10"/>
          <p:cNvSpPr/>
          <p:nvPr/>
        </p:nvSpPr>
        <p:spPr>
          <a:xfrm>
            <a:off x="838080" y="4191120"/>
            <a:ext cx="1828800" cy="106668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3505320" y="1219320"/>
            <a:ext cx="4800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Is f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a fun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hint: look at the grap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pass the vertical line test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4" descr="[image]"/>
          <p:cNvPicPr/>
          <p:nvPr/>
        </p:nvPicPr>
        <p:blipFill>
          <a:blip r:embed="rId1"/>
          <a:stretch/>
        </p:blipFill>
        <p:spPr>
          <a:xfrm>
            <a:off x="4572000" y="3048120"/>
            <a:ext cx="4343400" cy="37465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6" name="Line 16"/>
          <p:cNvSpPr/>
          <p:nvPr/>
        </p:nvSpPr>
        <p:spPr>
          <a:xfrm>
            <a:off x="5486400" y="3200400"/>
            <a:ext cx="0" cy="320040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6172200" y="3200400"/>
            <a:ext cx="0" cy="327672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8"/>
          <p:cNvSpPr/>
          <p:nvPr/>
        </p:nvSpPr>
        <p:spPr>
          <a:xfrm>
            <a:off x="7162920" y="3276720"/>
            <a:ext cx="0" cy="3124080"/>
          </a:xfrm>
          <a:prstGeom prst="line">
            <a:avLst/>
          </a:prstGeom>
          <a:ln w="38160">
            <a:solidFill>
              <a:srgbClr val="ff00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609480" y="591192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 , f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) is a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0"/>
          <p:cNvSpPr/>
          <p:nvPr/>
        </p:nvSpPr>
        <p:spPr>
          <a:xfrm flipV="1">
            <a:off x="1447920" y="5029200"/>
            <a:ext cx="75960" cy="9907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1"/>
          <p:cNvSpPr/>
          <p:nvPr/>
        </p:nvSpPr>
        <p:spPr>
          <a:xfrm flipV="1">
            <a:off x="2814480" y="5482800"/>
            <a:ext cx="1828800" cy="68580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4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4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4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4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4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4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4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4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"/>
                            </p:stCondLst>
                            <p:childTnLst>
                              <p:par>
                                <p:cTn id="50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4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4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9:04:48Z</dcterms:created>
  <dc:creator>julie.geoghagan</dc:creator>
  <dc:description/>
  <dc:language>en-US</dc:language>
  <cp:lastModifiedBy> </cp:lastModifiedBy>
  <dcterms:modified xsi:type="dcterms:W3CDTF">2009-08-04T23:05:57Z</dcterms:modified>
  <cp:revision>17</cp:revision>
  <dc:subject/>
  <dc:title>7.4  </dc:title>
</cp:coreProperties>
</file>